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media/image18.png" ContentType="image/png"/>
  <Override PartName="/ppt/media/image15.gif" ContentType="image/gif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2118-01BF-44A1-B952-C9763AD45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www.scientificamerican.com/article.cfm?id=1000-genomes-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bc.co.uk/schools/gcsebitesize/science/add_gateway_pre_2011/living/cloningrev4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9reproduction.wikispaces.com/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ailymail.co.uk/sciencetech/article-1131349/Couple-devastated-death-beloved-dog-pay-100-000-clone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celot di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ean company BioArts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rioslibres.info/coevolution-and-symbiosi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external fertiliz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symbiosis (clownfish eat harmful small invertebrates &amp; are protected from predators and immune to stinging of anemone;  clownfish fecal matter provides nutrients to anem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rsnatzkesbiology.blogspot.ca/2009/11/stages-of-mitosis-and-meiosis_1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torvista.com/content/biology/biology-iii/cell-reproduction/meiosi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torvista.com/content/biology/biology-iii/cell-reproduction/meiosi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ol is this animation?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tokyo-med.ac.jp/genet/mfi-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egacy.owensboro.kctcs.edu/gcaplan/anat2/notes/APIINotes2%20meio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://smokefurr.proboards.com/index.cgi?board=general&amp;action=display&amp;thread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male or female?  autosome vs. sex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cl.ac.uk/~ucbhjow/medicine/mende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or fem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stroh.wordpress.com/2011/02/28/karyotyp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chem.co/2010/01/dna-mutations-and-genetic-diseas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a 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eingbelongingbecoming.wordpress.com/2011/10/02/strawberry-field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://www.sophisticatededge.com/how-do-aphids-reprodu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torvista.com/content/biology/biology-iii/cell-reproduction/mitosi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ome.comcast.net/~clupold96/notes%20pages/chromosomes_tip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mmortalhumans.com/the-potential-good-of-human-clo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1669-07B4-456F-92F3-2F560A33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B285-4AE7-4998-BD30-A71CFAC9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268B-9EF8-4B4C-BF11-5ED53959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C2B-CFBC-4108-B8C4-D53CFFA2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9BA-40D4-45D7-89D9-ABACC3BB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371-DD45-4B09-8839-C1476667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247-955A-41F7-93D7-AAB4B9EC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5EC-B82C-46D4-813C-6C78D6FF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DF40-2B5D-4C86-A053-03C49EF3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5483-390D-496C-9B59-720441B2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D3A9-217D-45E1-A3B5-58A54C6B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B57-892C-4887-B992-4156143C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3D1F-D4B9-45C7-A4DC-217225C95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dity &amp;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l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5240" y="1981080"/>
            <a:ext cx="6473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809640"/>
            <a:ext cx="77724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Cl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production of prized animals &amp;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ally-modified organisms (GMOs) such as yeast or bacteria for insulin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angered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87520" y="609480"/>
            <a:ext cx="4367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xual Reproduction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(sperm &amp; o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tilization (external &amp; inter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iosis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t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ing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74720" y="609480"/>
            <a:ext cx="5794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14440" y="609480"/>
            <a:ext cx="6313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1255680"/>
            <a:ext cx="77724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rms &amp; Concep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dity &amp; 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&amp;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&amp; l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xual reproduction &amp; 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aking Gametes -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at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09680" y="609480"/>
            <a:ext cx="4724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some more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y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y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24200"/>
            <a:ext cx="8915400" cy="40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84160" y="533520"/>
            <a:ext cx="737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this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92240" y="1981080"/>
            <a:ext cx="695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(through roots or shoots, e.g., strawberry plant, dandelion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ding (e.g., hydra, yea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ation (e.g., mushroom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17840" y="609480"/>
            <a:ext cx="4108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765000"/>
            <a:ext cx="777240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69920" y="1371600"/>
            <a:ext cx="5278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, Chromat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92200" y="1981080"/>
            <a:ext cx="615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36800" y="1981080"/>
            <a:ext cx="3470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0:48:18Z</dcterms:created>
  <dc:creator>rubina khan</dc:creator>
  <dc:description/>
  <dc:language>en-US</dc:language>
  <cp:lastModifiedBy>rubina khan</cp:lastModifiedBy>
  <dcterms:modified xsi:type="dcterms:W3CDTF">2013-03-06T16:12:09Z</dcterms:modified>
  <cp:revision>28</cp:revision>
  <dc:subject/>
  <dc:title>PowerPoint Presentation</dc:title>
</cp:coreProperties>
</file>